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CC6-10B6-40CE-A2EB-86771B8F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8DF-4EFA-488F-96C4-CD2FCD13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B96-E167-4A80-8A39-4B6D11A9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213-DA40-4A15-A1F6-BB4170AB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1FD-7590-4237-ACB5-ADC94ED5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796-8097-47A1-A9F0-1FFE04C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8FB-C9D6-48F1-BFC0-9A6E65FE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D9D-F24B-4EE6-A685-1CF87EF9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E41-1A2F-435B-B3A2-C1CBDB8D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B1D-9585-4786-9A81-C1EFABD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1BB-8B17-49B8-B9E3-79A2EEC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120-FAD8-495E-A447-F72C4F8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D97-3B94-443E-8252-6FF83C1F8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ROAD TO 2016 ELECTION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IN UGANDA: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PION POLL WAS CONDUCTED BETWEEN JUNE 12 AND 20 COVERING 6,626 HOUSEHOLDS COUNTRY WIDE BEFORE THE ELECTIONS AND HERE ARE THEIR OPION AS REGARDS NORTHERN UGANDA CONTITUENCIES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MARUZI COUNT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kora Ebong 63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immy Okello 9.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nny Ayoo 6.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IRA MUNICIPALIT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immy Akena 19.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tmoi 13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GULU MUNICIPALIT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jara mapenduzi 21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ire Christopher 10.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ol Betty Ocan 6.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bert Mao 4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8:50:47Z</dcterms:created>
  <dc:creator>DAVE</dc:creator>
  <dc:description/>
  <dc:language>en-US</dc:language>
  <cp:lastModifiedBy>Kakuru Benard</cp:lastModifiedBy>
  <dcterms:modified xsi:type="dcterms:W3CDTF">2017-05-24T22:01:53Z</dcterms:modified>
  <cp:revision>11</cp:revision>
  <dc:subject/>
  <dc:title>ROAD TO 2016 ELECTIONS IN UGANDA:</dc:title>
</cp:coreProperties>
</file>